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2.wmf" ContentType="image/x-wmf"/>
  <Override PartName="/ppt/media/image4.png" ContentType="image/png"/>
  <Override PartName="/ppt/media/image10.wmf" ContentType="image/x-wmf"/>
  <Override PartName="/ppt/media/image25.jpeg" ContentType="image/jpeg"/>
  <Override PartName="/ppt/media/image7.jpeg" ContentType="image/jpeg"/>
  <Override PartName="/ppt/media/image11.wmf" ContentType="image/x-wmf"/>
  <Override PartName="/ppt/media/image3.png" ContentType="image/png"/>
  <Override PartName="/ppt/media/image17.jpeg" ContentType="image/jpeg"/>
  <Override PartName="/ppt/media/image6.wmf" ContentType="image/x-wmf"/>
  <Override PartName="/ppt/media/image19.jpeg" ContentType="image/jpeg"/>
  <Override PartName="/ppt/media/image9.wmf" ContentType="image/x-wmf"/>
  <Override PartName="/ppt/media/image27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wmf" ContentType="image/x-wmf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5.jpeg" ContentType="image/jpeg"/>
  <Override PartName="/ppt/media/image2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088188" cy="9410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88400" cy="941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008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4016520" y="-360"/>
            <a:ext cx="307008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90160" y="705960"/>
            <a:ext cx="4705560" cy="352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44280" y="4470120"/>
            <a:ext cx="5197320" cy="4233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0" y="8940600"/>
            <a:ext cx="307008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4016520" y="8940600"/>
            <a:ext cx="307008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8F3D9D8-2AB2-461C-BCA9-F7B3AB843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16520" y="8940960"/>
            <a:ext cx="30700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39D7232-E26F-40F9-A1CB-D20ABCB5B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44280" y="4470120"/>
            <a:ext cx="51973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4016520" y="8940960"/>
            <a:ext cx="30700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E49D0C3-BA86-4C54-ACB0-BDC6A686A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44280" y="4470120"/>
            <a:ext cx="51973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4016520" y="8940960"/>
            <a:ext cx="30700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A2ACA61-CDCF-4519-A1AA-8142F64DB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44280" y="4470120"/>
            <a:ext cx="51973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16520" y="8940960"/>
            <a:ext cx="30700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3E18CDF-7915-4C70-B517-4D8496FC3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44280" y="4470120"/>
            <a:ext cx="51973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4016520" y="8940960"/>
            <a:ext cx="30700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584699D-37AD-41DE-9EFB-5A392E404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44280" y="4470120"/>
            <a:ext cx="51973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4016520" y="8940960"/>
            <a:ext cx="30700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20A2B2B-EA5E-476B-8012-9DEAD91C3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44280" y="4470120"/>
            <a:ext cx="51973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4016520" y="8940960"/>
            <a:ext cx="30700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3802ACF-DC48-4ED0-9138-652A07492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44280" y="4470120"/>
            <a:ext cx="51973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4016520" y="8940960"/>
            <a:ext cx="30700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AED4F1B-F494-4696-99F2-F5D840718C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44280" y="4470120"/>
            <a:ext cx="51973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16520" y="8940960"/>
            <a:ext cx="30700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194BCA4-64C5-4053-942D-F5D64F7F6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44280" y="4470120"/>
            <a:ext cx="51973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AF3A2-8BE1-455D-BBF1-BC5B7B6A37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A21F5-C473-4B1F-8759-62328F16C2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1220D-8277-4FFA-ABC1-66762E493C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C8E1A-FC1D-4B6B-922C-5D4E59B225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686CC-B70C-4C5D-BE4C-4324972ADC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9B80D-8706-4319-8D89-CBA6AD1C20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17EAC-2E03-49DC-9940-623C510AF8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E67EF-FFB0-47CD-B7E7-86FB168697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0CC11-CB3B-4369-9FA8-8655D08469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1ED09-387C-4E72-9267-DD8143D05F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4C5E3-90FA-492D-B221-E7BCE81949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AE74F-A764-41DC-A8BD-E3BA62E4B7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02108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9A56-7F3A-47B9-A13A-08B38D706D60}" type="slidenum">
              <a:rPr b="0" lang="en-US" sz="9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0055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8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76320">
            <a:solidFill>
              <a:srgbClr val="3737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u46/Desktop" TargetMode="External"/><Relationship Id="rId2" Type="http://schemas.openxmlformats.org/officeDocument/2006/relationships/hyperlink" Target="file:///C:/Documents%20and%20Settings/u46/Desktop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youtube.com/watch?v=lhs4W4kX2uo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Slide Number Placeholder 6"/>
          <p:cNvSpPr/>
          <p:nvPr/>
        </p:nvSpPr>
        <p:spPr>
          <a:xfrm>
            <a:off x="702144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94EF2-00D5-48C4-8B8D-628417C8FEA0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4846680" y="1270080"/>
            <a:ext cx="39974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595"/>
                </a:solidFill>
                <a:latin typeface="Arial"/>
              </a:rPr>
              <a:t>Creating American Foreign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4862520" y="2205000"/>
            <a:ext cx="378468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ow should the United States conduct foreign polic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efinition of  Foreign Polic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overnment's strategy in dealing with other n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4848120" y="852480"/>
            <a:ext cx="1387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GOV_SE_CH17_Page_02.jpg"/>
          <p:cNvPicPr/>
          <p:nvPr/>
        </p:nvPicPr>
        <p:blipFill>
          <a:blip r:embed="rId1"/>
          <a:srcRect l="0" t="0" r="3683" b="0"/>
          <a:stretch/>
        </p:blipFill>
        <p:spPr>
          <a:xfrm>
            <a:off x="0" y="606600"/>
            <a:ext cx="4572000" cy="6251400"/>
          </a:xfrm>
          <a:prstGeom prst="rect">
            <a:avLst/>
          </a:prstGeom>
          <a:ln w="0">
            <a:noFill/>
          </a:ln>
        </p:spPr>
      </p:pic>
      <p:sp>
        <p:nvSpPr>
          <p:cNvPr id="51" name="Straight Connector 9"/>
          <p:cNvSpPr/>
          <p:nvPr/>
        </p:nvSpPr>
        <p:spPr>
          <a:xfrm flipH="1">
            <a:off x="4572000" y="595440"/>
            <a:ext cx="1440" cy="62704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55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123840" y="485640"/>
            <a:ext cx="882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24000" y="5962680"/>
            <a:ext cx="7877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9"/>
          <p:cNvSpPr/>
          <p:nvPr/>
        </p:nvSpPr>
        <p:spPr>
          <a:xfrm>
            <a:off x="702144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BE90F-F3E2-43FD-AF3B-3B135285C6FA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177840" y="5305320"/>
            <a:ext cx="83948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will now be briefed on the North Korean situ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rth Korea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issile Def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7"/>
          <p:cNvGrpSpPr/>
          <p:nvPr/>
        </p:nvGrpSpPr>
        <p:grpSpPr>
          <a:xfrm>
            <a:off x="8031240" y="4627440"/>
            <a:ext cx="473040" cy="471600"/>
            <a:chOff x="8031240" y="4627440"/>
            <a:chExt cx="473040" cy="471600"/>
          </a:xfrm>
        </p:grpSpPr>
        <p:sp>
          <p:nvSpPr>
            <p:cNvPr id="90" name="Oval 4"/>
            <p:cNvSpPr/>
            <p:nvPr/>
          </p:nvSpPr>
          <p:spPr>
            <a:xfrm>
              <a:off x="8031240" y="4627440"/>
              <a:ext cx="473040" cy="471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5"/>
            <p:cNvSpPr/>
            <p:nvPr/>
          </p:nvSpPr>
          <p:spPr>
            <a:xfrm>
              <a:off x="8218080" y="4812480"/>
              <a:ext cx="103680" cy="103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6"/>
            <p:cNvSpPr/>
            <p:nvPr/>
          </p:nvSpPr>
          <p:spPr>
            <a:xfrm>
              <a:off x="8187840" y="4784400"/>
              <a:ext cx="162720" cy="16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Text Box 16"/>
          <p:cNvSpPr/>
          <p:nvPr/>
        </p:nvSpPr>
        <p:spPr>
          <a:xfrm>
            <a:off x="7541280" y="427500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D Track 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7" descr="Boardroom"/>
          <p:cNvPicPr/>
          <p:nvPr/>
        </p:nvPicPr>
        <p:blipFill>
          <a:blip r:embed="rId3"/>
          <a:stretch/>
        </p:blipFill>
        <p:spPr>
          <a:xfrm>
            <a:off x="0" y="0"/>
            <a:ext cx="9144000" cy="52052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3"/>
          <p:cNvSpPr/>
          <p:nvPr/>
        </p:nvSpPr>
        <p:spPr>
          <a:xfrm>
            <a:off x="1536840" y="1928880"/>
            <a:ext cx="6159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are now members of the National Security Council, a group of senior advisors who counsel the president on matters of foreign polic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have been called to an NSC meeting to advise the president on how to respond to a  foreign policy crisi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7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ssible U.S. Respon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ather additional covert intelligence about North Korea’s nuclear weapons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st a summit with leaders from the US and North Korea and other major nations to encourage peaceful re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ose economic sanctions on North Korea and any country who provides support for North Ko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unch a military strike and bomb suspected nuclear si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vade North Korea, depose the leader, and pave the way for democratic ele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55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6" descr="Boardroom"/>
          <p:cNvPicPr/>
          <p:nvPr/>
        </p:nvPicPr>
        <p:blipFill>
          <a:blip r:embed="rId1"/>
          <a:stretch/>
        </p:blipFill>
        <p:spPr>
          <a:xfrm>
            <a:off x="0" y="0"/>
            <a:ext cx="9144000" cy="52052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123840" y="485640"/>
            <a:ext cx="882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324000" y="5962680"/>
            <a:ext cx="7877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9"/>
          <p:cNvSpPr/>
          <p:nvPr/>
        </p:nvSpPr>
        <p:spPr>
          <a:xfrm>
            <a:off x="702144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C564F-D019-4F67-BDF4-61003D613423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177840" y="5451480"/>
            <a:ext cx="839484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are now members of the National Security Council, a group of senior advisors who counsel the president on matters of foreign polic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have been called to an NSC meeting to advise the president on how to respond to a foreign policy scenario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55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324000" y="5962680"/>
            <a:ext cx="7877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9"/>
          <p:cNvSpPr/>
          <p:nvPr/>
        </p:nvSpPr>
        <p:spPr>
          <a:xfrm>
            <a:off x="702144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04660-8EDE-437A-876B-F30AFC3B2668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5772240" y="390600"/>
            <a:ext cx="278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SC briefing on                         Piracy and Counterfei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8" descr="GOV_OT_CH17_Page_7"/>
          <p:cNvPicPr/>
          <p:nvPr/>
        </p:nvPicPr>
        <p:blipFill>
          <a:blip r:embed="rId1"/>
          <a:srcRect l="10968" t="0" r="0" b="0"/>
          <a:stretch/>
        </p:blipFill>
        <p:spPr>
          <a:xfrm>
            <a:off x="527040" y="390600"/>
            <a:ext cx="4341960" cy="631512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55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324000" y="5962680"/>
            <a:ext cx="7877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9"/>
          <p:cNvSpPr/>
          <p:nvPr/>
        </p:nvSpPr>
        <p:spPr>
          <a:xfrm>
            <a:off x="702144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A237C-8752-4626-9ACD-BEE1A83CF257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5772240" y="390600"/>
            <a:ext cx="278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SC briefing on                         Piracy and Counterfei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9" descr="GOV_OT_CH17_Page_8"/>
          <p:cNvPicPr/>
          <p:nvPr/>
        </p:nvPicPr>
        <p:blipFill>
          <a:blip r:embed="rId1"/>
          <a:srcRect l="11089" t="0" r="0" b="0"/>
          <a:stretch/>
        </p:blipFill>
        <p:spPr>
          <a:xfrm>
            <a:off x="527040" y="388800"/>
            <a:ext cx="4341960" cy="631692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55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324000" y="5962680"/>
            <a:ext cx="7877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9"/>
          <p:cNvSpPr/>
          <p:nvPr/>
        </p:nvSpPr>
        <p:spPr>
          <a:xfrm>
            <a:off x="702144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75F6D-CF8B-4238-A374-BFBA473E5070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2017800" y="525600"/>
            <a:ext cx="50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SC briefing on Piracy and Counterfei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9" descr="GOV_OT_CH17_Page_9"/>
          <p:cNvPicPr/>
          <p:nvPr/>
        </p:nvPicPr>
        <p:blipFill>
          <a:blip r:embed="rId1"/>
          <a:srcRect l="0" t="11402" r="0" b="0"/>
          <a:stretch/>
        </p:blipFill>
        <p:spPr>
          <a:xfrm>
            <a:off x="1216080" y="1285920"/>
            <a:ext cx="6669000" cy="456876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0" y="604800"/>
            <a:ext cx="3352680" cy="6253200"/>
          </a:xfrm>
          <a:prstGeom prst="rect">
            <a:avLst/>
          </a:prstGeom>
          <a:solidFill>
            <a:srgbClr val="c1c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91960" y="95400"/>
            <a:ext cx="7391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pons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5"/>
          <p:cNvSpPr/>
          <p:nvPr/>
        </p:nvSpPr>
        <p:spPr>
          <a:xfrm>
            <a:off x="10461600" y="352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9"/>
          <p:cNvSpPr/>
          <p:nvPr/>
        </p:nvSpPr>
        <p:spPr>
          <a:xfrm>
            <a:off x="702144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5F896-A964-4109-B462-FEA373159039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3467160" y="825480"/>
            <a:ext cx="49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3497400" y="774720"/>
            <a:ext cx="542268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of late 2007, U.S. leaders and diplomats continued to pressure foreign governments to crack down on counterfeiting and pirac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epartment of Commerce continued its campaign to teach consumers how to protect themselves from counterfeited and pirated goo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pite these attempts, widespread counterfeiting and piracy of U.S. goods continued, posing a hardship on the U.S. econom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" descr="GOV_OT_CH17_Page_7"/>
          <p:cNvPicPr/>
          <p:nvPr/>
        </p:nvPicPr>
        <p:blipFill>
          <a:blip r:embed="rId1"/>
          <a:srcRect l="10938" t="0" r="0" b="0"/>
          <a:stretch/>
        </p:blipFill>
        <p:spPr>
          <a:xfrm>
            <a:off x="295200" y="884160"/>
            <a:ext cx="2678040" cy="389412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0" y="604800"/>
            <a:ext cx="3352680" cy="6253200"/>
          </a:xfrm>
          <a:prstGeom prst="rect">
            <a:avLst/>
          </a:prstGeom>
          <a:solidFill>
            <a:srgbClr val="c1c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291960" y="95400"/>
            <a:ext cx="7391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pons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5"/>
          <p:cNvSpPr/>
          <p:nvPr/>
        </p:nvSpPr>
        <p:spPr>
          <a:xfrm>
            <a:off x="10461600" y="352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9"/>
          <p:cNvSpPr/>
          <p:nvPr/>
        </p:nvSpPr>
        <p:spPr>
          <a:xfrm>
            <a:off x="702144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74140-2309-43CF-842C-19ECF215C1FC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3467160" y="825480"/>
            <a:ext cx="49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3476520" y="793800"/>
            <a:ext cx="542304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 these questions with your partn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you believe that the United States pursued the appropriate course of action?  Why or why no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o you think the United States should respond to similar situations in the futu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1" descr="00013376&amp;Stretch=False&amp;Size=600"/>
          <p:cNvPicPr/>
          <p:nvPr/>
        </p:nvPicPr>
        <p:blipFill>
          <a:blip r:embed="rId1"/>
          <a:stretch/>
        </p:blipFill>
        <p:spPr>
          <a:xfrm>
            <a:off x="295200" y="893880"/>
            <a:ext cx="2743200" cy="180972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73040" y="536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Thirteen D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s we watch this excerpt, comple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dentify the issue and the countries involved or potentially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y is this an issu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dentify the soft and/or hard policy tools suggested to the Presi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dentify the soft and/or hard policy tools attempted  by the Presi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dentify the actual and potential consequences of those cho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dentify the choice or choices made by the Presi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at choice would you have made?  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0" y="600120"/>
            <a:ext cx="3352680" cy="6257880"/>
          </a:xfrm>
          <a:prstGeom prst="rect">
            <a:avLst/>
          </a:prstGeom>
          <a:solidFill>
            <a:srgbClr val="c1c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291960" y="95400"/>
            <a:ext cx="7391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pons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5"/>
          <p:cNvSpPr/>
          <p:nvPr/>
        </p:nvSpPr>
        <p:spPr>
          <a:xfrm>
            <a:off x="10461600" y="352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8"/>
          <p:cNvSpPr/>
          <p:nvPr/>
        </p:nvSpPr>
        <p:spPr>
          <a:xfrm>
            <a:off x="3500280" y="793800"/>
            <a:ext cx="5497560" cy="47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a partner. With your partner, create a policy recommendation to present at the upcoming NSC meeting by choosing one or more of the options on the handout or by creating alternative option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creating your recommendation, prepare a spokesperson to defend it at the upcoming mee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SEPARATE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9"/>
          <p:cNvSpPr/>
          <p:nvPr/>
        </p:nvSpPr>
        <p:spPr>
          <a:xfrm>
            <a:off x="702144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94FD6-4E21-4912-AC8D-6C69402485BE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8"/>
          <p:cNvSpPr/>
          <p:nvPr/>
        </p:nvSpPr>
        <p:spPr>
          <a:xfrm>
            <a:off x="0" y="569880"/>
            <a:ext cx="9144000" cy="0"/>
          </a:xfrm>
          <a:prstGeom prst="line">
            <a:avLst/>
          </a:prstGeom>
          <a:ln w="76320">
            <a:solidFill>
              <a:srgbClr val="3737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2" descr="GOV_OT_CH17_Page_1"/>
          <p:cNvPicPr/>
          <p:nvPr/>
        </p:nvPicPr>
        <p:blipFill>
          <a:blip r:embed="rId1"/>
          <a:srcRect l="11130" t="0" r="0" b="0"/>
          <a:stretch/>
        </p:blipFill>
        <p:spPr>
          <a:xfrm>
            <a:off x="0" y="1081080"/>
            <a:ext cx="3298680" cy="528948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7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0055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304920" y="88920"/>
            <a:ext cx="7467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ide Number Placeholder 9"/>
          <p:cNvSpPr/>
          <p:nvPr/>
        </p:nvSpPr>
        <p:spPr>
          <a:xfrm>
            <a:off x="702144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19F1-854D-40C1-AF8D-882C5BE935B7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2"/>
          <p:cNvSpPr/>
          <p:nvPr/>
        </p:nvSpPr>
        <p:spPr>
          <a:xfrm>
            <a:off x="3476520" y="5283360"/>
            <a:ext cx="5537160" cy="13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two goals do you think are the most important for the United States to pursue? Wh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two goals do you think are the least important for the United States to pursue? Wh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3" descr="LM_CH17_Notebook Guide 17_Page_1"/>
          <p:cNvPicPr/>
          <p:nvPr/>
        </p:nvPicPr>
        <p:blipFill>
          <a:blip r:embed="rId1"/>
          <a:srcRect l="7943" t="65329" r="51311" b="10526"/>
          <a:stretch/>
        </p:blipFill>
        <p:spPr>
          <a:xfrm>
            <a:off x="4272120" y="1784520"/>
            <a:ext cx="3997080" cy="306540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57" name="Picture 7" descr="GOV_SE_CH17_Page_02.jpg"/>
          <p:cNvPicPr/>
          <p:nvPr/>
        </p:nvPicPr>
        <p:blipFill>
          <a:blip r:embed="rId2"/>
          <a:srcRect l="0" t="0" r="3683" b="0"/>
          <a:stretch/>
        </p:blipFill>
        <p:spPr>
          <a:xfrm>
            <a:off x="0" y="606600"/>
            <a:ext cx="3476520" cy="62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55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324000" y="5962680"/>
            <a:ext cx="7877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9"/>
          <p:cNvSpPr/>
          <p:nvPr/>
        </p:nvSpPr>
        <p:spPr>
          <a:xfrm>
            <a:off x="702144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6F60F-68FB-42C2-857F-2CFAD1F538EB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5772240" y="390600"/>
            <a:ext cx="213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SC briefing on                         Sudan and Darf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9" descr="GOV_OT_CH17_Page_4"/>
          <p:cNvPicPr/>
          <p:nvPr/>
        </p:nvPicPr>
        <p:blipFill>
          <a:blip r:embed="rId1"/>
          <a:srcRect l="11028" t="0" r="0" b="0"/>
          <a:stretch/>
        </p:blipFill>
        <p:spPr>
          <a:xfrm>
            <a:off x="527040" y="390600"/>
            <a:ext cx="4341960" cy="631512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55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324000" y="5962680"/>
            <a:ext cx="7877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9"/>
          <p:cNvSpPr/>
          <p:nvPr/>
        </p:nvSpPr>
        <p:spPr>
          <a:xfrm>
            <a:off x="702144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532CA-E7C7-435C-A55A-F117EB17ED8B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5772240" y="390600"/>
            <a:ext cx="213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SC briefing on                         Sudan and Darf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9" descr="GOV_OT_CH17_Page_5"/>
          <p:cNvPicPr/>
          <p:nvPr/>
        </p:nvPicPr>
        <p:blipFill>
          <a:blip r:embed="rId1"/>
          <a:srcRect l="11028" t="0" r="0" b="0"/>
          <a:stretch/>
        </p:blipFill>
        <p:spPr>
          <a:xfrm>
            <a:off x="527040" y="390600"/>
            <a:ext cx="4341960" cy="631512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55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324000" y="5962680"/>
            <a:ext cx="7877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9"/>
          <p:cNvSpPr/>
          <p:nvPr/>
        </p:nvSpPr>
        <p:spPr>
          <a:xfrm>
            <a:off x="702144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D9F16-5973-46FB-911F-AF25884D99DA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5772240" y="390600"/>
            <a:ext cx="213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SC briefing on                         Sudan and Darf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9" descr="GOV_OT_CH17_Page_6"/>
          <p:cNvPicPr/>
          <p:nvPr/>
        </p:nvPicPr>
        <p:blipFill>
          <a:blip r:embed="rId1"/>
          <a:srcRect l="11028" t="0" r="0" b="0"/>
          <a:stretch/>
        </p:blipFill>
        <p:spPr>
          <a:xfrm>
            <a:off x="527040" y="390600"/>
            <a:ext cx="4341960" cy="631512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0" y="604800"/>
            <a:ext cx="3352680" cy="6253200"/>
          </a:xfrm>
          <a:prstGeom prst="rect">
            <a:avLst/>
          </a:prstGeom>
          <a:solidFill>
            <a:srgbClr val="c1c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291960" y="95400"/>
            <a:ext cx="7391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pons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5"/>
          <p:cNvSpPr/>
          <p:nvPr/>
        </p:nvSpPr>
        <p:spPr>
          <a:xfrm>
            <a:off x="10461600" y="352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9"/>
          <p:cNvSpPr/>
          <p:nvPr/>
        </p:nvSpPr>
        <p:spPr>
          <a:xfrm>
            <a:off x="702144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3250B-3DB1-438D-851D-2450F5DDE4C0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3467160" y="825480"/>
            <a:ext cx="49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492360" y="785880"/>
            <a:ext cx="5423040" cy="46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of late 2007, ethnic cleansing continued in Darfu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pite appeals by the president and secretary of state, Sudan would not allow UN peacekeeping forces into the count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ay 2007, the United States imposed new sanctions against Sudan and placed restrictions on foreign companies that did business with that count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also issued an advisory warning U.S. citizens of the dangers of traveling to Sud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summer 2007, Sudan agreed to allow a UN peacekeeping force into Darf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0" descr="GOV_OT_CH17_Page_4"/>
          <p:cNvPicPr/>
          <p:nvPr/>
        </p:nvPicPr>
        <p:blipFill>
          <a:blip r:embed="rId1"/>
          <a:srcRect l="11063" t="0" r="0" b="0"/>
          <a:stretch/>
        </p:blipFill>
        <p:spPr>
          <a:xfrm>
            <a:off x="295200" y="893880"/>
            <a:ext cx="2676600" cy="389412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0" y="604800"/>
            <a:ext cx="3352680" cy="6253200"/>
          </a:xfrm>
          <a:prstGeom prst="rect">
            <a:avLst/>
          </a:prstGeom>
          <a:solidFill>
            <a:srgbClr val="c1c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291960" y="95400"/>
            <a:ext cx="7391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pons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5"/>
          <p:cNvSpPr/>
          <p:nvPr/>
        </p:nvSpPr>
        <p:spPr>
          <a:xfrm>
            <a:off x="10461600" y="352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9"/>
          <p:cNvSpPr/>
          <p:nvPr/>
        </p:nvSpPr>
        <p:spPr>
          <a:xfrm>
            <a:off x="702144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41122-7844-4FA9-89C6-173495D4CBDE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3467160" y="825480"/>
            <a:ext cx="49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3476520" y="793800"/>
            <a:ext cx="542304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 these questions with your partn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you believe that the United States pursued the appropriate course of action?  Why or why no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o you think the United States should respond to similar situations in the futu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1" descr="00013376&amp;Stretch=False&amp;Size=600"/>
          <p:cNvPicPr/>
          <p:nvPr/>
        </p:nvPicPr>
        <p:blipFill>
          <a:blip r:embed="rId1"/>
          <a:stretch/>
        </p:blipFill>
        <p:spPr>
          <a:xfrm>
            <a:off x="295200" y="893880"/>
            <a:ext cx="2743200" cy="180972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55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123840" y="485640"/>
            <a:ext cx="882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177840" y="5337000"/>
            <a:ext cx="86439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 are now members of the National Security Council, a group of senior advisors who counsel the president on matters of foreign polic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 have been called to an NSC meeting to advise the president on how to respond to three foreign policy scenario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324000" y="5962680"/>
            <a:ext cx="7877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9"/>
          <p:cNvSpPr/>
          <p:nvPr/>
        </p:nvSpPr>
        <p:spPr>
          <a:xfrm>
            <a:off x="702144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CEAB9-3CD1-4343-8DF7-59CDEF1ADB15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2" descr="Boardroom"/>
          <p:cNvPicPr/>
          <p:nvPr/>
        </p:nvPicPr>
        <p:blipFill>
          <a:blip r:embed="rId1"/>
          <a:stretch/>
        </p:blipFill>
        <p:spPr>
          <a:xfrm>
            <a:off x="0" y="0"/>
            <a:ext cx="9144000" cy="52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55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324000" y="5962680"/>
            <a:ext cx="7877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9"/>
          <p:cNvSpPr/>
          <p:nvPr/>
        </p:nvSpPr>
        <p:spPr>
          <a:xfrm>
            <a:off x="702144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396CD-5DA3-491F-8FB4-D3DD9AC7AF47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627120" y="2724120"/>
            <a:ext cx="4152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ayne, insert Transparency 17A he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5772240" y="390600"/>
            <a:ext cx="25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SC Briefing on Lib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2" descr="GOV_OT_CH17_Page_1"/>
          <p:cNvPicPr/>
          <p:nvPr/>
        </p:nvPicPr>
        <p:blipFill>
          <a:blip r:embed="rId1"/>
          <a:srcRect l="11130" t="0" r="0" b="0"/>
          <a:stretch/>
        </p:blipFill>
        <p:spPr>
          <a:xfrm>
            <a:off x="527040" y="390600"/>
            <a:ext cx="4335480" cy="631512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55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324000" y="5962680"/>
            <a:ext cx="7877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9"/>
          <p:cNvSpPr/>
          <p:nvPr/>
        </p:nvSpPr>
        <p:spPr>
          <a:xfrm>
            <a:off x="702144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B444A-C387-4C40-9178-C09466BF6029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5772240" y="390600"/>
            <a:ext cx="25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SC Briefing on Lib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8" descr="GOV_OT_CH17_Page_2"/>
          <p:cNvPicPr/>
          <p:nvPr/>
        </p:nvPicPr>
        <p:blipFill>
          <a:blip r:embed="rId1"/>
          <a:srcRect l="9092" t="0" r="0" b="0"/>
          <a:stretch/>
        </p:blipFill>
        <p:spPr>
          <a:xfrm>
            <a:off x="527040" y="390600"/>
            <a:ext cx="4335480" cy="617220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55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324000" y="5962680"/>
            <a:ext cx="7877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9"/>
          <p:cNvSpPr/>
          <p:nvPr/>
        </p:nvSpPr>
        <p:spPr>
          <a:xfrm>
            <a:off x="702144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1B7B8-34AA-427F-9263-7AA2005B2015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5772240" y="390600"/>
            <a:ext cx="25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SC Briefing on Lib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8" descr="GOV_OT_CH17_Page_3"/>
          <p:cNvPicPr/>
          <p:nvPr/>
        </p:nvPicPr>
        <p:blipFill>
          <a:blip r:embed="rId1"/>
          <a:srcRect l="11028" t="0" r="0" b="0"/>
          <a:stretch/>
        </p:blipFill>
        <p:spPr>
          <a:xfrm>
            <a:off x="527040" y="390600"/>
            <a:ext cx="4341960" cy="631512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0" y="606600"/>
            <a:ext cx="3352680" cy="6251400"/>
          </a:xfrm>
          <a:prstGeom prst="rect">
            <a:avLst/>
          </a:prstGeom>
          <a:solidFill>
            <a:srgbClr val="c1c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291960" y="95400"/>
            <a:ext cx="7391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pons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5"/>
          <p:cNvSpPr/>
          <p:nvPr/>
        </p:nvSpPr>
        <p:spPr>
          <a:xfrm>
            <a:off x="10461600" y="352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9"/>
          <p:cNvSpPr/>
          <p:nvPr/>
        </p:nvSpPr>
        <p:spPr>
          <a:xfrm>
            <a:off x="702144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7B76B-6489-43F1-9EFF-76BE3AAD669C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3467160" y="825480"/>
            <a:ext cx="49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3495600" y="787320"/>
            <a:ext cx="5423040" cy="37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cenario you just analyzed occurred in October 200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intense diplomatic negotiations with British and U.S. leaders, Muammar al-Gaddafi admitted that Libya had developed a secret nuclear weapons program over several decad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bya agreed to dismantle the program and allow international inspectors to oversee the destruction of its nuclear sit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eign policy analysts thought that Gaddafi ’s decision was based on Libya’s lack of preparation for a military confrontation with the United St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674640" y="1343160"/>
            <a:ext cx="17416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ayne, insert Transparency 17A he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0" descr="GOV_OT_CH17_Page_1"/>
          <p:cNvPicPr/>
          <p:nvPr/>
        </p:nvPicPr>
        <p:blipFill>
          <a:blip r:embed="rId1"/>
          <a:srcRect l="11183" t="0" r="0" b="0"/>
          <a:stretch/>
        </p:blipFill>
        <p:spPr>
          <a:xfrm>
            <a:off x="295200" y="892080"/>
            <a:ext cx="2678040" cy="390384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0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Globalization – a move toward more open free trade, travel, and communication among 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Diplomacy – practice of managing communication and relationships between 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mbassador – diplomatic official representing one country to ano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Diplomatic immunity – international law that protects diplomats and their families from being arrested in other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1"/>
          <p:cNvSpPr/>
          <p:nvPr/>
        </p:nvSpPr>
        <p:spPr>
          <a:xfrm>
            <a:off x="702144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2B538-79B6-44D5-AF44-D15F8449796D}" type="slidenum">
              <a:rPr b="0" lang="en-US" sz="9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0" y="606600"/>
            <a:ext cx="3352680" cy="6251400"/>
          </a:xfrm>
          <a:prstGeom prst="rect">
            <a:avLst/>
          </a:prstGeom>
          <a:solidFill>
            <a:srgbClr val="c1c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291960" y="95400"/>
            <a:ext cx="7391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pons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10461600" y="352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9"/>
          <p:cNvSpPr/>
          <p:nvPr/>
        </p:nvSpPr>
        <p:spPr>
          <a:xfrm>
            <a:off x="702144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7F0E1-D414-4A5A-A0CB-289AEE2C4C3F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3467160" y="825480"/>
            <a:ext cx="49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3476520" y="793800"/>
            <a:ext cx="553428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 these questions with your partn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you believe that the United States pursued the appropriate course of action?  Why or why no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o you think the United States should respond to similar situations in the futu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1" descr="00013376&amp;Stretch=False&amp;Size=600"/>
          <p:cNvPicPr/>
          <p:nvPr/>
        </p:nvPicPr>
        <p:blipFill>
          <a:blip r:embed="rId1"/>
          <a:stretch/>
        </p:blipFill>
        <p:spPr>
          <a:xfrm>
            <a:off x="295200" y="893880"/>
            <a:ext cx="2743200" cy="180972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26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Vocabulary Part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Diplomatic recognition – official acceptance of a regime as the legitimate government of its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ummit – a meeting of high ranking officials to discuss matters of great importance to their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anction – an action taken by one or more countries to pressure another country into changing policies or following international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702144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4BB58-55FD-4DBC-A44D-7DF0A9473CCE}" type="slidenum">
              <a:rPr b="0" lang="en-US" sz="9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165240" y="838080"/>
            <a:ext cx="8978760" cy="51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55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123840" y="485640"/>
            <a:ext cx="882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324000" y="5962680"/>
            <a:ext cx="7877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9"/>
          <p:cNvSpPr/>
          <p:nvPr/>
        </p:nvSpPr>
        <p:spPr>
          <a:xfrm>
            <a:off x="702144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FDC4E-1706-41A5-A1BA-E2719B1C90F1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2" descr="Boardroom"/>
          <p:cNvPicPr/>
          <p:nvPr/>
        </p:nvPicPr>
        <p:blipFill>
          <a:blip r:embed="rId1"/>
          <a:stretch/>
        </p:blipFill>
        <p:spPr>
          <a:xfrm>
            <a:off x="0" y="0"/>
            <a:ext cx="9144000" cy="52052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8"/>
          <p:cNvSpPr/>
          <p:nvPr/>
        </p:nvSpPr>
        <p:spPr>
          <a:xfrm>
            <a:off x="2305080" y="2498760"/>
            <a:ext cx="5530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271080" y="5149800"/>
            <a:ext cx="4547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f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plomacy, Summi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eaty, Trade Relation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eign Aid, Cultural Ex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5477040" y="5149800"/>
            <a:ext cx="3804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d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lligence, Covert Actio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ycott, Sanction, Milit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iance, Armed 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1"/>
          <p:cNvSpPr/>
          <p:nvPr/>
        </p:nvSpPr>
        <p:spPr>
          <a:xfrm>
            <a:off x="3184920" y="3200400"/>
            <a:ext cx="27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est wing epis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04920" y="939960"/>
            <a:ext cx="6400800" cy="5338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C:\Users\Dircks\AppData\Local\Microsoft\Windows\Temporary Internet Files\Content.IE5\CK8HTBHZ\MP900442432[1].jpg"/>
          <p:cNvPicPr/>
          <p:nvPr/>
        </p:nvPicPr>
        <p:blipFill>
          <a:blip r:embed="rId2"/>
          <a:stretch/>
        </p:blipFill>
        <p:spPr>
          <a:xfrm>
            <a:off x="6477120" y="1447920"/>
            <a:ext cx="2455920" cy="1260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C:\Users\Dircks\AppData\Local\Microsoft\Windows\Temporary Internet Files\Content.IE5\D2HT5V4F\MP900442235[1].jpg"/>
          <p:cNvPicPr/>
          <p:nvPr/>
        </p:nvPicPr>
        <p:blipFill>
          <a:blip r:embed="rId3"/>
          <a:stretch/>
        </p:blipFill>
        <p:spPr>
          <a:xfrm>
            <a:off x="7162920" y="4724280"/>
            <a:ext cx="1523880" cy="2032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C:\Users\Dircks\AppData\Local\Microsoft\Windows\Temporary Internet Files\Content.IE5\JUX3L5XR\MC900183754[1].wmf"/>
          <p:cNvPicPr/>
          <p:nvPr/>
        </p:nvPicPr>
        <p:blipFill>
          <a:blip r:embed="rId4"/>
          <a:stretch/>
        </p:blipFill>
        <p:spPr>
          <a:xfrm>
            <a:off x="7054920" y="2819520"/>
            <a:ext cx="173988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216000" y="800280"/>
            <a:ext cx="5530680" cy="5325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Users\Dircks\AppData\Local\Microsoft\Windows\Temporary Internet Files\Content.IE5\E5NPO0YH\MC900312284[1].wmf"/>
          <p:cNvPicPr/>
          <p:nvPr/>
        </p:nvPicPr>
        <p:blipFill>
          <a:blip r:embed="rId2"/>
          <a:stretch/>
        </p:blipFill>
        <p:spPr>
          <a:xfrm>
            <a:off x="7012080" y="1600200"/>
            <a:ext cx="687240" cy="11937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C:\Users\Dircks\AppData\Local\Microsoft\Windows\Temporary Internet Files\Content.IE5\CK8HTBHZ\MC900048445[1].wmf"/>
          <p:cNvPicPr/>
          <p:nvPr/>
        </p:nvPicPr>
        <p:blipFill>
          <a:blip r:embed="rId3"/>
          <a:stretch/>
        </p:blipFill>
        <p:spPr>
          <a:xfrm>
            <a:off x="6019920" y="3048120"/>
            <a:ext cx="2423880" cy="1827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C:\Users\Dircks\AppData\Local\Microsoft\Windows\Temporary Internet Files\Content.IE5\D2HT5V4F\MC900215080[1].wmf"/>
          <p:cNvPicPr/>
          <p:nvPr/>
        </p:nvPicPr>
        <p:blipFill>
          <a:blip r:embed="rId4"/>
          <a:stretch/>
        </p:blipFill>
        <p:spPr>
          <a:xfrm>
            <a:off x="6012000" y="4948200"/>
            <a:ext cx="263196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458640" y="1919160"/>
            <a:ext cx="82267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07:35:31Z</dcterms:created>
  <dc:creator>TCI</dc:creator>
  <dc:description/>
  <dc:language>en-US</dc:language>
  <cp:lastModifiedBy>Illinois School District U-46</cp:lastModifiedBy>
  <cp:lastPrinted>2007-08-24T20:48:01Z</cp:lastPrinted>
  <dcterms:modified xsi:type="dcterms:W3CDTF">2013-11-12T13:19:58Z</dcterms:modified>
  <cp:revision>463</cp:revision>
  <dc:subject/>
  <dc:title>PowerPoint Presentation</dc:title>
</cp:coreProperties>
</file>